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png" ContentType="image/png"/>
  <Override PartName="/ppt/media/image2.png" ContentType="image/png"/>
  <Override PartName="/ppt/media/image3.gif" ContentType="image/gif"/>
  <Override PartName="/ppt/media/image4.gif" ContentType="image/gif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E848-A2CF-4359-8240-ABD436C15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2599-0779-4C58-9C0C-341566ABF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84B3-D4CD-470A-8236-9469B193A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0867-D576-4A0E-B323-A8CB9E851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BD88-954A-4A6F-94E7-4E4909269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FD20-26FE-4C81-8582-143DBFCE8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FA6D-D98D-41D5-97A6-CB4562C22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1065-9E01-4303-933D-94A820707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5C88-D89F-4202-9A3E-C95D4D491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8A0B-E827-422A-BCEB-FC1B7F39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2317-E0A1-46E3-98F2-41C428E5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6E25-A6F0-4AA6-8E29-5FB941BE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2AB07-736D-4DBB-8926-CDFC70608F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2133360"/>
            <a:ext cx="8915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arth Histor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keup Bell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ll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334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)Deposition is the____ of sediment over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) Stratification is the ____ of sedi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cross section diagram to the right to answer the following ques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Which rock layer is the oldest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) Which rock layer is the youngest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) Can you put the rock layers in order from oldest to younge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5867280" y="1066680"/>
          <a:ext cx="3276720" cy="24498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1066680"/>
                    <a:ext cx="3276720" cy="24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6858000" y="3886200"/>
            <a:ext cx="160020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h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y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228960" y="-360"/>
            <a:ext cx="3809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ell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280" y="761760"/>
            <a:ext cx="32767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ldest rock is at letter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ault is located at position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ma intrusion is located at letter 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youngest rock is at location 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unconformity is located at letters _____ &amp; 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 the letters in order from oldes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young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0" t="0" r="0" b="41888"/>
          <a:stretch/>
        </p:blipFill>
        <p:spPr>
          <a:xfrm>
            <a:off x="3505320" y="2895480"/>
            <a:ext cx="5638680" cy="3456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200400" y="304920"/>
            <a:ext cx="1889280" cy="2514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181480" y="0"/>
            <a:ext cx="196236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259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ll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1920" y="761760"/>
            <a:ext cx="35053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ease the events in order: oldest to young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ault is located at position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  A rock has ¼ of original amount of parent material left. How many half- lives of that isotope have passed since the rock forme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   Scientists use radioactive decay to measure _____ti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934320" y="838080"/>
            <a:ext cx="190476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ol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,B,C,L,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962520" y="3809880"/>
            <a:ext cx="4267080" cy="2419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-762120" y="70102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-1676520" y="6705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380880" y="60958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-838080" y="55627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-1295280" y="51814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1905120" y="47242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95880" y="556272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72400" y="594360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086600" y="56386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14800" y="525780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24280" y="548640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29200" y="487692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24280" y="44956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553080" y="541008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19720" y="419112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388620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867280" y="487692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685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ll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6324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  _____is most responsible for adding oxygen into the Earth’s early atmosp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_____ Era was dominated by reptiles and the ____ Era was dominated by mamm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An igneous rock contains a radioactive isotope with a ½  life of 10 million yrs. Absolute dating shows ¼  of the original concentration of the parent isotope is left. The igneous rock is _____million yrs o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 About 90 percent of Earth’s history is within the _______e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86600" y="2209680"/>
            <a:ext cx="182880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sozo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otosyntheti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leozo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ambri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3T14:14:49Z</dcterms:created>
  <dc:creator>jfuller</dc:creator>
  <dc:description/>
  <dc:language>en-US</dc:language>
  <cp:lastModifiedBy>jfuller</cp:lastModifiedBy>
  <dcterms:modified xsi:type="dcterms:W3CDTF">2011-12-05T21:36:19Z</dcterms:modified>
  <cp:revision>17</cp:revision>
  <dc:subject/>
  <dc:title>Slide 1</dc:title>
</cp:coreProperties>
</file>